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39800"/>
            <a:ext cx="49258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F7FC-8C5C-483D-BB7F-9225DE4D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E40F-CBD5-42AE-9769-B89651343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E230-1122-43FE-8B2E-D8C6FBCC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C37F-FE53-4236-A41C-736A85E3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7539-61EE-4E6D-88FB-85553CF3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F007-972D-4F00-9C01-8E7926B4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B45C-38B8-4DA4-AD67-454A57CF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58F0-D366-47EF-AC8B-49F363E3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2EF-CAF9-4654-982D-155E31883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BF0-5C28-4336-AA67-E00A8E8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020-336E-485E-9AB7-64BAF043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C8F-6901-4624-BEE8-BF1A1419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52E-50E5-489F-A20F-7177E4FF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049-2E4D-4320-A94E-3429088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10D-0DC9-4715-91F5-BE60024D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AEC-7D44-4653-BF42-6D20E56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044-C4A3-4ACE-BFF5-CE80C684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463-6A96-4E11-96BE-6CB89359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3D5-356A-4B6A-9CE0-7142DED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902-0493-4DD8-A1E5-B3DB241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E6D-CC61-4784-BB0F-21FD24C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A088-C056-44D3-A1D6-D172A0A0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9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35"/>
          <p:cNvSpPr/>
          <p:nvPr/>
        </p:nvSpPr>
        <p:spPr>
          <a:xfrm>
            <a:off x="304920" y="3340080"/>
            <a:ext cx="84582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VPD un IeVP darbinieku apmācību vajadzī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ētījuma rezultātu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Gitāna Dāvid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dītāja, vadošā konsultante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7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647640" y="-111240"/>
            <a:ext cx="949176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amatinformācija par pētīju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802800"/>
            <a:ext cx="808848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ījuma mērķ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adīt analītisko bāzi un iegūt informāciju par esošā apmācību procesa un satura atbilstību IeVP un VPD funkciju izpildei un identificēt pilnveidojamās apmācību j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rises laik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2009. gada janvāris –m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nieku kvalifikā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ģistra grāds psiholoģ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smaz 5 gadu pedagoģiskā darba piered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ieeja pētījuma veikšan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nepieciešamas šobrī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būs nepieciešamas nākotnē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s ir pašreizējais zināšanu, prasmju un iemaņu līmenis VPD un IeVP speciālistiem un vadošajam personāl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i ir pieejamās apmācības kompetenču attīstīb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72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niecības me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1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okumentu analī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tervijas ar iestāžu vadošajām amatpersonā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Fokusgrupu diskusijas (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nalīze, dalībnieku atsauk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dziļinātas intervijas (16 VPD; 15 ar virsnieki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Grupu intervijas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VPD darbinieku un klientu sarunu novērošana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klientu lietu vadības analīze (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ozīmīgākie pētījuma rezultā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360" y="764640"/>
            <a:ext cx="817884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airāku mācību programmu izvērtēj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: Jauno darbinieku apmācību programma, Individuālais darbs ar klientu u.c.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IeVP: programma “Ieslodzījuma vietu apsardz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Metodiskā un klientu perspektī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98320" y="3886200"/>
            <a:ext cx="81788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tizēts apkopojums par VPD vecākā referenta amatā nepieciešamajām zināšanām un prasmē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ktuālo mācību vajadzību apzināšana VPD darbinieki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85720" y="2455920"/>
            <a:ext cx="81788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Priekšlikumi par mācību tēmām un mācību programmas saturu 2 jaunām mācību programmā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irsniekiem IeV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 darbinieki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61960" y="5200560"/>
            <a:ext cx="817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Apmācību sistēmu izvērtējums VPD un IeVP, priekšlikumi to pilnveidošan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8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35"/>
          <p:cNvSpPr/>
          <p:nvPr/>
        </p:nvSpPr>
        <p:spPr>
          <a:xfrm>
            <a:off x="304920" y="1401840"/>
            <a:ext cx="84582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ūtiskākie secinājumi un priekšlik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ācību programmu analī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rķi un saturs lielā mērā nodrošina darbam nepieciešamo zināšanu un prasmju attīstīb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alielināt praktisko mācību metožu vietu un īpats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mācību sistē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tbilstība apmācību mērķ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Lielā mērā nodrošināta programmu savstarpējā saskaņotība un pēctecīb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ilnveidot apmācību kvalitātes uzraudzības mehān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08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8400" y="-41904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ījuma veiksmes fak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5120" y="3348000"/>
            <a:ext cx="81788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ša konsultantu sadarbība ar projekta darba gr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nošanās par pētījuma metodēm un sagaidāmajiem rezultāt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ionālo kompetenču siner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icama projekta vadī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9880" y="581040"/>
            <a:ext cx="8205840" cy="2617560"/>
            <a:chOff x="839880" y="581040"/>
            <a:chExt cx="8205840" cy="2617560"/>
          </a:xfrm>
        </p:grpSpPr>
        <p:sp>
          <p:nvSpPr>
            <p:cNvPr id="117" name="Rectangle 10"/>
            <p:cNvSpPr/>
            <p:nvPr/>
          </p:nvSpPr>
          <p:spPr>
            <a:xfrm>
              <a:off x="839880" y="58104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adošā personāla ieinteresētība abās iestādē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66880" y="168732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mācības kā nozīmīga prioritāte iestāžu darb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stēmiska pieeja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ūsdienīgas mācību meto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20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-27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Paldies par sadarbīb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ĪPA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PD un IeVP vadošajām amatpersonā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leksandram Dementje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eonīdam Jefremo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inai Pūrītei un Lienei Zeibo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jekta komand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ihailam Papsujevič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inai Vanagai un Anvaram Zavack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8:10:00Z</dcterms:created>
  <dc:creator>Maris</dc:creator>
  <dc:description/>
  <dc:language>en-US</dc:language>
  <cp:lastModifiedBy>Gitana</cp:lastModifiedBy>
  <dcterms:modified xsi:type="dcterms:W3CDTF">2010-12-14T17:51:49Z</dcterms:modified>
  <cp:revision>465</cp:revision>
  <dc:subject/>
  <dc:title>Organization Development Academy</dc:title>
</cp:coreProperties>
</file>